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2.png" ContentType="image/png"/>
  <Override PartName="/ppt/media/image21.jpeg" ContentType="image/jpeg"/>
  <Override PartName="/ppt/media/image6.gif" ContentType="image/gif"/>
  <Override PartName="/ppt/media/image29.gif" ContentType="image/gif"/>
  <Override PartName="/ppt/media/image26.jpeg" ContentType="image/jpeg"/>
  <Override PartName="/ppt/media/image5.jpeg" ContentType="image/jpeg"/>
  <Override PartName="/ppt/media/image7.gif" ContentType="image/gif"/>
  <Override PartName="/ppt/media/image32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8.gif" ContentType="image/gif"/>
  <Override PartName="/ppt/media/image15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6.jpeg" ContentType="image/jpeg"/>
  <Override PartName="/ppt/media/image17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1D83-FEA5-41B0-A7D1-8C7F92619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3EF1-8B7C-4596-8F39-6F21F9DC8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D6CA-4EA3-4A22-AB0C-FFF63EECA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D227-55E6-4346-8208-1828F0712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9D0F-E8F9-47BB-A12D-180F66980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8B80-7895-4881-95A5-54F0749D8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3BF4-19E8-46A7-8365-AA0B7B47A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C90B-6784-44E7-B023-CD8F671F9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9AF3-33CA-4CCD-ABDC-E904268A5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F5CB-9393-48F1-9A70-47E4DEE86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FD0D-5D78-4004-84C5-746E74E74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8E30-47EF-4500-8A79-6722F9A85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1D37-AA69-4094-A1FC-106F6C161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0E54-5A00-41F9-BDEB-622A4A9FD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CA87-A019-4D1F-A65F-B564024BD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7217-5EAD-4F30-8ABA-125B6ED75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A9B0-4289-4B16-9060-AACB506F6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E6D1-0102-4057-A37F-60B70D418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70C4-2F5A-42BA-B727-9B30D85DA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30A7-66CB-4D68-9CDF-394DAD00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F3A8-89E1-47AF-9FF6-0D551D56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6EED-33ED-48AB-9EF0-3CCA015E7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DD6A-782F-4CEF-A1CB-6C6EF8F93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5F91-1805-450E-8B49-67BE5D07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6C45-7487-472A-B2E9-4010F05F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A630-2722-4666-83FD-9B5FC01D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FB73-4F1F-47EB-8948-3E2FB037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D079-BF2C-4C0A-A3AE-F605F4C8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B28C-8784-49C4-8F4C-272A943F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F33F-2AA8-4FA7-92CC-0D1B83E9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7672-D8C7-4A8C-8424-006355E3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98ff"/>
            </a:gs>
            <a:gs pos="100000">
              <a:srgbClr val="ffa3d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E1C4-9146-4CAC-A562-BF2AF7376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228600"/>
            <a:ext cx="914400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a441e"/>
                </a:solidFill>
                <a:latin typeface="Chalkboard"/>
              </a:rPr>
              <a:t>Electric Currents from Magnetis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1b0d"/>
                </a:solidFill>
                <a:latin typeface="Arial"/>
              </a:rPr>
              <a:t>Chp. 18, Section 3, pages 632-63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Dilbertelectricity"/>
          <p:cNvPicPr/>
          <p:nvPr/>
        </p:nvPicPr>
        <p:blipFill>
          <a:blip r:embed="rId1"/>
          <a:stretch/>
        </p:blipFill>
        <p:spPr>
          <a:xfrm>
            <a:off x="0" y="3733920"/>
            <a:ext cx="91440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4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TING ELECTRICITY USING MAGNET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Generating_Electricity___Understanding_Electromagnetism copy.mo" descr="Macintosh HD:Users:s71678:Desktop:Generating_Electricity___Understanding_Electromagnetism copy.mo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2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how_wind_turbine_works.jpg"/>
          <p:cNvPicPr/>
          <p:nvPr/>
        </p:nvPicPr>
        <p:blipFill>
          <a:blip r:embed="rId1"/>
          <a:stretch/>
        </p:blipFill>
        <p:spPr>
          <a:xfrm>
            <a:off x="0" y="1422360"/>
            <a:ext cx="9144000" cy="54356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5638680" y="0"/>
            <a:ext cx="3505320" cy="1922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IND POW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wind turbine2(1).jpg"/>
          <p:cNvPicPr/>
          <p:nvPr/>
        </p:nvPicPr>
        <p:blipFill>
          <a:blip r:embed="rId2"/>
          <a:stretch/>
        </p:blipFill>
        <p:spPr>
          <a:xfrm>
            <a:off x="0" y="0"/>
            <a:ext cx="357192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map_of_area_towns_med.jpg"/>
          <p:cNvPicPr/>
          <p:nvPr/>
        </p:nvPicPr>
        <p:blipFill>
          <a:blip r:embed="rId1"/>
          <a:stretch/>
        </p:blipFill>
        <p:spPr>
          <a:xfrm>
            <a:off x="1066680" y="0"/>
            <a:ext cx="701064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26_portsmouth_abbey.jpg"/>
          <p:cNvPicPr/>
          <p:nvPr/>
        </p:nvPicPr>
        <p:blipFill>
          <a:blip r:embed="rId1"/>
          <a:stretch/>
        </p:blipFill>
        <p:spPr>
          <a:xfrm>
            <a:off x="685800" y="1085760"/>
            <a:ext cx="7696080" cy="5772240"/>
          </a:xfrm>
          <a:prstGeom prst="rect">
            <a:avLst/>
          </a:prstGeom>
          <a:ln w="0">
            <a:noFill/>
          </a:ln>
        </p:spPr>
      </p:pic>
      <p:sp>
        <p:nvSpPr>
          <p:cNvPr id="98" name="TextBox 7"/>
          <p:cNvSpPr/>
          <p:nvPr/>
        </p:nvSpPr>
        <p:spPr>
          <a:xfrm>
            <a:off x="0" y="0"/>
            <a:ext cx="899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ies 40% of electricity for Portsmouth Abbey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JA0207_Wind_BW_02-07-09_S9D88GF.jpg"/>
          <p:cNvPicPr/>
          <p:nvPr/>
        </p:nvPicPr>
        <p:blipFill>
          <a:blip r:embed="rId1"/>
          <a:stretch/>
        </p:blipFill>
        <p:spPr>
          <a:xfrm>
            <a:off x="0" y="3205080"/>
            <a:ext cx="5486400" cy="3652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3278531937_52b65e5416.jpg"/>
          <p:cNvPicPr/>
          <p:nvPr/>
        </p:nvPicPr>
        <p:blipFill>
          <a:blip r:embed="rId2"/>
          <a:stretch/>
        </p:blipFill>
        <p:spPr>
          <a:xfrm>
            <a:off x="0" y="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250px-Rhode_Island_Municipalities_Portsmouth_Highlighted-1.png"/>
          <p:cNvPicPr/>
          <p:nvPr/>
        </p:nvPicPr>
        <p:blipFill>
          <a:blip r:embed="rId3"/>
          <a:stretch/>
        </p:blipFill>
        <p:spPr>
          <a:xfrm>
            <a:off x="5486400" y="0"/>
            <a:ext cx="3657600" cy="5398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WIND_BB_01.JPG"/>
          <p:cNvPicPr/>
          <p:nvPr/>
        </p:nvPicPr>
        <p:blipFill>
          <a:blip r:embed="rId4"/>
          <a:stretch/>
        </p:blipFill>
        <p:spPr>
          <a:xfrm>
            <a:off x="5334120" y="4321080"/>
            <a:ext cx="3809880" cy="25369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0" y="0"/>
            <a:ext cx="30481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 19th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2502_Hydroelectric-dam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2209680" y="457200"/>
            <a:ext cx="6934320" cy="764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OELECTRIC D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harrisst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228600" y="3808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RIS STATION-  Kennebec River, Ma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HotRocks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659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1752480" y="0"/>
            <a:ext cx="5639040" cy="1008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EOTHERM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752480" y="2438280"/>
            <a:ext cx="57913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AM CREATED NATUR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o spin the turb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image005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0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O = EARTH and THERMAL = HE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Using_Steam___Understanding_Geothermal_Energy copy.mo" descr="Macintosh HD:Users:s71678:Desktop:Using_Steam___Understanding_Geothermal_Energy copy.mo"/>
          <p:cNvPicPr/>
          <p:nvPr/>
        </p:nvPicPr>
        <p:blipFill>
          <a:blip r:embed="rId1"/>
          <a:stretch/>
        </p:blipFill>
        <p:spPr>
          <a:xfrm>
            <a:off x="533520" y="800280"/>
            <a:ext cx="8076960" cy="60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8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45720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.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Dis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457200" y="1447920"/>
            <a:ext cx="853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year ______, the English scientist _________________ discovered that ____________ can be produced from ____________.  How?  What did h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124080" y="129528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1b0d"/>
                </a:solidFill>
                <a:latin typeface="Arial"/>
              </a:rPr>
              <a:t>18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57200" y="19051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MICHAEL FARA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57200" y="24382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57200" y="2895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MAGNET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michael_faraday"/>
          <p:cNvPicPr/>
          <p:nvPr/>
        </p:nvPicPr>
        <p:blipFill>
          <a:blip r:embed="rId1"/>
          <a:stretch/>
        </p:blipFill>
        <p:spPr>
          <a:xfrm>
            <a:off x="838080" y="3733920"/>
            <a:ext cx="2086200" cy="25905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3200400" y="4114800"/>
            <a:ext cx="5562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74"/>
                </a:solidFill>
                <a:latin typeface="Lucida Calligraphy"/>
              </a:rPr>
              <a:t>Michael Fara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74"/>
                </a:solidFill>
                <a:latin typeface="Lucida Calligraphy"/>
              </a:rPr>
              <a:t>1791-186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tidal1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457200" y="99072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 rot="19302600">
            <a:off x="-304560" y="1679040"/>
            <a:ext cx="6070680" cy="1099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IDAL POW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edf_la-rance_2_quer"/>
          <p:cNvPicPr/>
          <p:nvPr/>
        </p:nvPicPr>
        <p:blipFill>
          <a:blip r:embed="rId1"/>
          <a:stretch/>
        </p:blipFill>
        <p:spPr>
          <a:xfrm>
            <a:off x="3279600" y="3092400"/>
            <a:ext cx="5864400" cy="3765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Val-Rive-map1"/>
          <p:cNvPicPr/>
          <p:nvPr/>
        </p:nvPicPr>
        <p:blipFill>
          <a:blip r:embed="rId2"/>
          <a:stretch/>
        </p:blipFill>
        <p:spPr>
          <a:xfrm>
            <a:off x="0" y="0"/>
            <a:ext cx="3586320" cy="35863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3809880" y="914400"/>
            <a:ext cx="5181840" cy="101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CE TIDAL POWER ST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tida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4"/>
          <p:cNvSpPr/>
          <p:nvPr/>
        </p:nvSpPr>
        <p:spPr>
          <a:xfrm>
            <a:off x="304920" y="0"/>
            <a:ext cx="853416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ELECTRICITY GENERATION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Understanding_the_Connection_of_Electricity_and_Magnetism.mo" descr="Macintosh HD:Users:s71678:Desktop:Understanding_the_Connection_of_Electricity_and_Magnetism.mo"/>
          <p:cNvPicPr/>
          <p:nvPr/>
        </p:nvPicPr>
        <p:blipFill>
          <a:blip r:embed="rId1"/>
          <a:stretch/>
        </p:blipFill>
        <p:spPr>
          <a:xfrm>
            <a:off x="533520" y="743040"/>
            <a:ext cx="8153280" cy="611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4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induction_01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faradayRing"/>
          <p:cNvPicPr/>
          <p:nvPr/>
        </p:nvPicPr>
        <p:blipFill>
          <a:blip r:embed="rId1"/>
          <a:stretch/>
        </p:blipFill>
        <p:spPr>
          <a:xfrm>
            <a:off x="1828800" y="304920"/>
            <a:ext cx="5638680" cy="47941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762120" y="53341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a441e"/>
                </a:solidFill>
                <a:latin typeface="Arial"/>
              </a:rPr>
              <a:t>Faraday’s ring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induction_02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051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228600" y="5715000"/>
            <a:ext cx="86104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aff06"/>
                </a:solidFill>
                <a:latin typeface="Arial"/>
              </a:rPr>
              <a:t>Describe experiment in your own word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457200" y="457200"/>
            <a:ext cx="8229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lectromagnetic Induc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920" y="11430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80880" y="1295280"/>
            <a:ext cx="8382240" cy="26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through which electric _________ is produced by a __________ magnetic f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380880" y="2819520"/>
            <a:ext cx="876312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produce a changing magnetic fie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990720" y="44956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441e"/>
                </a:solidFill>
                <a:latin typeface="Arial"/>
              </a:rPr>
              <a:t>Change current (or turn off/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990720" y="39625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441e"/>
                </a:solidFill>
                <a:latin typeface="Arial"/>
              </a:rPr>
              <a:t>Move the wire near the mag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990720" y="33526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441e"/>
                </a:solidFill>
                <a:latin typeface="Arial"/>
              </a:rPr>
              <a:t>Move the magnet nea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838080" y="17524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6172200" y="17524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CHA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induction_animation"/>
          <p:cNvPicPr/>
          <p:nvPr/>
        </p:nvPicPr>
        <p:blipFill>
          <a:blip r:embed="rId1"/>
          <a:stretch/>
        </p:blipFill>
        <p:spPr>
          <a:xfrm>
            <a:off x="2743200" y="4660920"/>
            <a:ext cx="320040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induction_animation"/>
          <p:cNvPicPr/>
          <p:nvPr/>
        </p:nvPicPr>
        <p:blipFill>
          <a:blip r:embed="rId1"/>
          <a:stretch/>
        </p:blipFill>
        <p:spPr>
          <a:xfrm>
            <a:off x="1066680" y="-1066680"/>
            <a:ext cx="6553440" cy="44989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304920" y="29718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is created only if wire cuts across the magnetic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04920" y="434340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rection of the current depends on the direction of the movement of the magnetic field (or wire through the magnetic fie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80880" y="15228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I.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lectric Gen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52280" y="1295280"/>
            <a:ext cx="4648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 ____________ energy into ___________ energy (how does this compare to an electric motor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acdc_anim_ac"/>
          <p:cNvPicPr/>
          <p:nvPr/>
        </p:nvPicPr>
        <p:blipFill>
          <a:blip r:embed="rId1"/>
          <a:stretch/>
        </p:blipFill>
        <p:spPr>
          <a:xfrm>
            <a:off x="4724280" y="914400"/>
            <a:ext cx="4233960" cy="5029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acdc_inside_generator"/>
          <p:cNvPicPr/>
          <p:nvPr/>
        </p:nvPicPr>
        <p:blipFill>
          <a:blip r:embed="rId2"/>
          <a:stretch/>
        </p:blipFill>
        <p:spPr>
          <a:xfrm>
            <a:off x="762120" y="3962520"/>
            <a:ext cx="2590560" cy="25905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152280" y="22860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ELECTR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905120" y="12952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MECHAN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04920" y="3808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80880" y="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ther the magnets move or the wires mov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28600" y="1219320"/>
            <a:ext cx="8534520" cy="642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441e"/>
                </a:solidFill>
                <a:latin typeface="Arial"/>
              </a:rPr>
              <a:t>EXAMPLES OF GENERA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laptop-front"/>
          <p:cNvPicPr/>
          <p:nvPr/>
        </p:nvPicPr>
        <p:blipFill>
          <a:blip r:embed="rId1"/>
          <a:stretch/>
        </p:blipFill>
        <p:spPr>
          <a:xfrm>
            <a:off x="5286240" y="3724200"/>
            <a:ext cx="3857760" cy="3133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A32QYS925KXU7A_1186076932720"/>
          <p:cNvPicPr/>
          <p:nvPr/>
        </p:nvPicPr>
        <p:blipFill>
          <a:blip r:embed="rId2"/>
          <a:stretch/>
        </p:blipFill>
        <p:spPr>
          <a:xfrm>
            <a:off x="0" y="39625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41WYkTDsTxL"/>
          <p:cNvPicPr/>
          <p:nvPr/>
        </p:nvPicPr>
        <p:blipFill>
          <a:blip r:embed="rId3"/>
          <a:stretch/>
        </p:blipFill>
        <p:spPr>
          <a:xfrm>
            <a:off x="2895480" y="4348080"/>
            <a:ext cx="2509920" cy="2509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5k4080"/>
          <p:cNvPicPr/>
          <p:nvPr/>
        </p:nvPicPr>
        <p:blipFill>
          <a:blip r:embed="rId4"/>
          <a:stretch/>
        </p:blipFill>
        <p:spPr>
          <a:xfrm>
            <a:off x="1981080" y="1905120"/>
            <a:ext cx="4013280" cy="3009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sc04782569"/>
          <p:cNvPicPr/>
          <p:nvPr/>
        </p:nvPicPr>
        <p:blipFill>
          <a:blip r:embed="rId5"/>
          <a:stretch/>
        </p:blipFill>
        <p:spPr>
          <a:xfrm>
            <a:off x="0" y="617400"/>
            <a:ext cx="9144000" cy="6240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sc04782569_2"/>
          <p:cNvPicPr/>
          <p:nvPr/>
        </p:nvPicPr>
        <p:blipFill>
          <a:blip r:embed="rId6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23:33:17Z</dcterms:created>
  <dc:creator>Sewatsky</dc:creator>
  <dc:description/>
  <dc:language>en-US</dc:language>
  <cp:lastModifiedBy>Michele</cp:lastModifiedBy>
  <cp:lastPrinted>2011-12-07T00:15:41Z</cp:lastPrinted>
  <dcterms:modified xsi:type="dcterms:W3CDTF">2012-11-26T19:54:44Z</dcterms:modified>
  <cp:revision>41</cp:revision>
  <dc:subject/>
  <dc:title>PowerPoint Presentation</dc:title>
</cp:coreProperties>
</file>